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B34-D657-42B6-B0DD-4DF7ED39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A61-1FC7-4BDA-B149-07184786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652-DD60-4BAF-9DFA-4D66DD69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EF4-D556-4F02-BC9A-5BADFC85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0E5-F56A-4C35-BAD8-E5C87610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2CA-D6EA-4C86-BF6F-F300085A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D87-988C-449A-B20E-CA79FF4B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8A2-BB5E-4631-B6E6-215280FA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DCA-349F-4101-835B-D4D7D954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C85-D487-42D4-BD7B-C1C6BFD2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E2A-8F10-4DFC-B249-0C5F6CBE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490-F254-4497-B337-85016F8C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920C-AF19-499D-B7B9-48D159C49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inandbakeit.com/wp-content/uploads/2009/03/snickers-king-size.jpg&amp;imgrefurl=http://grinandbakeit.com/candy-bar-cookie-showdown-snickers-cookies-vs-butterfingers-cookies&amp;usg=___sCvv5MjoH1BG82B6oIK5O27-Ds=&amp;h=300&amp;w=400&amp;sz=25&amp;hl=en&amp;start=38&amp;um=1&amp;itbs=1&amp;tbnid=TiHgWrElq2S1OM:&amp;tbnh=93&amp;tbnw=124&amp;prev=/images%3Fq%3DSnickers%26start%3D36%26um%3D1%26hl%3Den%26safe%3Dactive%26sa%3DN%26rls%3Dcom.microsoft:en-us%26ndsp%3D18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smartcanucks.ca/wp-content/uploads/2010/03/skittles.jpg&amp;imgrefurl=http://smartcanucks.ca/skittles-and-starburst-buy-one-get-one-printable-canadian-coupons-just-become-a-facebook-fan/&amp;usg=__w-aTulW2r1B20TEq0JOdNzO1vg0=&amp;h=316&amp;w=498&amp;sz=29&amp;hl=en&amp;start=16&amp;um=1&amp;itbs=1&amp;tbnid=B_91WJdaT2OrnM:&amp;tbnh=82&amp;tbnw=130&amp;prev=/images%3Fq%3DSkittles%26um%3D1%26hl%3Den%26safe%3Dactive%26rls%3Dcom.microsoft:en-us%26tbs%3Disch: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candy do you like?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6400800" cy="3505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ave you ever wondered if you like different candies as you grow up? Well I have. I’m doing my experiment on “What effect does age have on what candy you like.”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y problem that I am experimenting on is “What effect does age have on what candy you like?” 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y hypothesis is that the little kids, at the grade school, will like the sweeter more fruitier candy like Skittles. The grown up people will like the chocolate more. 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en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aper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Kindergarten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First Grad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Third Grad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Fourth Grad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Seventh Grad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 Eighth Grad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Teachers 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Gather materials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and out survey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nstruct how to take survey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ollect survey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ally survey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Grade School Kids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kittles= 4 kids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ese’s= 5 kids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nickers= 3 kids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eenagers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kittles= 0 people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ese’s= 3 people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nickers= 3 people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Adults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kittles= 0 people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ese’s= 2 people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nickers= 1 person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396400">
            <a:off x="990720" y="1980720"/>
            <a:ext cx="1638360" cy="122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850800">
            <a:off x="6400800" y="3200400"/>
            <a:ext cx="1847880" cy="116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rot="382200">
            <a:off x="762120" y="4495680"/>
            <a:ext cx="22287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y hypothesis was incorrect because more grade school kids enjoy Reese’s more than Skittles.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RLING  USD376</cp:lastModifiedBy>
  <cp:lastPrinted>2010-04-30T14:02:56Z</cp:lastPrinted>
  <dcterms:modified xsi:type="dcterms:W3CDTF">2010-04-30T14:04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